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073-2773-4BD8-A3C3-4481375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720-14DD-4D92-B611-1C7848C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FA3-D8C3-4C22-9D5A-BE1DB8A0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0A8-DA00-40CE-9C1B-8241F60B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464-81CE-4EF7-BED2-40639E48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F11E-A686-44B0-AFC7-3652E22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3006-A5AD-43E1-AC35-423D0000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F91-708E-4575-BF81-466F3A9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D71E-1273-44B2-8C77-8344A58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1D6F-933D-44DE-BA73-FE511F8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1D02-038E-48FD-A4D4-BFFCD04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957-5FCB-40E2-8319-CE3491A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285B-9E6E-4A89-978F-419510A3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66F-CCB4-4D42-AB45-F2C8580B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F33-E372-4CA5-A73C-393ECB7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A32-B44C-4601-802E-800A0CDF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A153-6886-4A16-A26E-D17886D6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E4B1-9E73-4AB7-9776-D6BA0E7E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ADBD-492F-447D-8B04-E0DD0E65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A167-0357-41D7-A65F-9505C48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7FCF-D2DD-4C43-899B-654114FA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A052-5A38-4AD6-9972-7CFE7BFC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538-176E-4793-8BCE-F8537AD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9480-0C7F-4176-A6DD-49A30F1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157A-CCB9-4F88-AFF1-01696DCF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7403-17B2-44FF-853D-6771933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28F6-B99C-4B26-8D94-9636E5B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AA81-21BE-4903-8DEA-91AE7729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F414-C79E-47C6-AC66-EC48284F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4496-1127-49D6-B1C5-028A0960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EC8D-D6D2-49B1-8B41-AB41642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CBF8-EB02-49FD-AF83-6D81E68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E914-EFDF-498C-911F-84C84CB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BAE-9C16-4BCB-9990-03A6BCA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1755-8E23-46D0-AD1A-044FC1A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8FCD-E111-4055-B54E-171D0E5E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72BF-88B9-4364-87AC-BB81F9E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2DE3-D522-4FB6-89C8-38F7336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3F92-0DB3-43BF-8853-19721B3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642F-2A88-4492-8536-F195D47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17CC-4A63-4F79-836C-5952A59C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ECE0-4345-47E7-9DC4-1C38A5BD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1FD3-FA10-44BB-A0EE-9AA66660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D95B-C8BF-4CE4-B243-3C71265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40A-1F6F-4EA8-A818-E5E127EC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F1B8-2BB8-4AC7-BC47-265402F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D5F9-3060-4165-8128-7C50F98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8A1FC-E99B-4369-8380-D918719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240A-9EC8-486A-8D16-4560DAC5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F7B1F-61D5-44CE-9BE1-97D5F4D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0068-60D7-49AA-9E38-39E0C55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9FAD-8897-41C7-BB7B-7886FC1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7278-F272-474D-8EB4-7532A37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48ED9-1B70-4264-95AD-53C6E633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1942-B8F0-4E0A-B166-AACB36F4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F62-FA3C-45A5-80DA-02CA1CB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DC26-C292-4627-85C9-3778A8D1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0DF-B66D-4296-B5AE-790C92A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024-4FB5-492E-B3A4-7BF4F34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B0E-EA1B-4DE2-A2F4-181FD17F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814C-4759-4172-B6FE-8ABB3F247F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266-D146-456E-BECF-2E439B3F56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D49-486F-418D-A5E6-7E525F131CE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0F2-9AB9-44E7-B3E0-4AB12952EE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22E-7A10-4FD5-8E75-234DE33848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Comic Sans MS"/>
              </a:rPr>
              <a:t>La Península Ibérica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4" descr="http://mapsof.net/uploads/static-maps/iberian_peninsula_base_map_with_rivers_and_names.png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638320"/>
            <a:ext cx="81835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La geografí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1" descr="outline map Iberia"/>
          <p:cNvPicPr/>
          <p:nvPr/>
        </p:nvPicPr>
        <p:blipFill>
          <a:blip r:embed="rId1"/>
          <a:stretch/>
        </p:blipFill>
        <p:spPr>
          <a:xfrm>
            <a:off x="1219320" y="457200"/>
            <a:ext cx="6219720" cy="5133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3807000" y="2616120"/>
            <a:ext cx="11458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362240" y="3425760"/>
            <a:ext cx="10000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152280" y="1676520"/>
            <a:ext cx="146700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6477120" y="2666880"/>
            <a:ext cx="20764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 rot="10800000">
            <a:off x="2361960" y="837720"/>
            <a:ext cx="2152440" cy="56520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3"/>
          <p:cNvSpPr/>
          <p:nvPr/>
        </p:nvSpPr>
        <p:spPr>
          <a:xfrm rot="12205200">
            <a:off x="4771800" y="1338120"/>
            <a:ext cx="2038320" cy="35568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14"/>
          <p:cNvSpPr/>
          <p:nvPr/>
        </p:nvSpPr>
        <p:spPr>
          <a:xfrm rot="9999600">
            <a:off x="3146040" y="3823560"/>
            <a:ext cx="2293920" cy="33804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4324320" y="2320920"/>
            <a:ext cx="333360" cy="228600"/>
          </a:xfrm>
          <a:custGeom>
            <a:avLst/>
            <a:gdLst>
              <a:gd name="textAreaLeft" fmla="*/ 102960 w 333360"/>
              <a:gd name="textAreaRight" fmla="*/ 230400 w 3333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33375" h="228600">
                <a:moveTo>
                  <a:pt x="0" y="87317"/>
                </a:moveTo>
                <a:lnTo>
                  <a:pt x="127339" y="87318"/>
                </a:lnTo>
                <a:lnTo>
                  <a:pt x="166688" y="0"/>
                </a:lnTo>
                <a:lnTo>
                  <a:pt x="206036" y="87318"/>
                </a:lnTo>
                <a:lnTo>
                  <a:pt x="333375" y="87317"/>
                </a:lnTo>
                <a:lnTo>
                  <a:pt x="230355" y="141282"/>
                </a:lnTo>
                <a:lnTo>
                  <a:pt x="269706" y="228599"/>
                </a:lnTo>
                <a:lnTo>
                  <a:pt x="166688" y="174634"/>
                </a:lnTo>
                <a:lnTo>
                  <a:pt x="63669" y="228599"/>
                </a:lnTo>
                <a:lnTo>
                  <a:pt x="103020" y="14128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1838160" y="1149480"/>
            <a:ext cx="9540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6826320" y="2073240"/>
            <a:ext cx="9504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2943360" y="4888080"/>
            <a:ext cx="9504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5305320" y="1982880"/>
            <a:ext cx="9540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5667480" y="3355920"/>
            <a:ext cx="95040" cy="907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715000" y="549360"/>
            <a:ext cx="131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0" y="55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2895480" y="152280"/>
            <a:ext cx="1847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3049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Océano Atlán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662940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Mar Mediterráne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26"/>
          <p:cNvSpPr/>
          <p:nvPr/>
        </p:nvSpPr>
        <p:spPr>
          <a:xfrm>
            <a:off x="571500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3809880" y="2590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28"/>
          <p:cNvSpPr/>
          <p:nvPr/>
        </p:nvSpPr>
        <p:spPr>
          <a:xfrm>
            <a:off x="129528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29"/>
          <p:cNvSpPr/>
          <p:nvPr/>
        </p:nvSpPr>
        <p:spPr>
          <a:xfrm>
            <a:off x="2895480" y="152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Mar Cantáb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30"/>
          <p:cNvSpPr/>
          <p:nvPr/>
        </p:nvSpPr>
        <p:spPr>
          <a:xfrm>
            <a:off x="2590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rdillera Cantáb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31"/>
          <p:cNvSpPr/>
          <p:nvPr/>
        </p:nvSpPr>
        <p:spPr>
          <a:xfrm rot="1344600">
            <a:off x="4965840" y="134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Pirine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32"/>
          <p:cNvSpPr/>
          <p:nvPr/>
        </p:nvSpPr>
        <p:spPr>
          <a:xfrm rot="20812200">
            <a:off x="3214080" y="380160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ierra Mor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3"/>
          <p:cNvSpPr/>
          <p:nvPr/>
        </p:nvSpPr>
        <p:spPr>
          <a:xfrm>
            <a:off x="3352680" y="2209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dr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34"/>
          <p:cNvSpPr/>
          <p:nvPr/>
        </p:nvSpPr>
        <p:spPr>
          <a:xfrm>
            <a:off x="1905120" y="1295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tiago de Composte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35"/>
          <p:cNvSpPr/>
          <p:nvPr/>
        </p:nvSpPr>
        <p:spPr>
          <a:xfrm>
            <a:off x="41911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arago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36"/>
          <p:cNvSpPr/>
          <p:nvPr/>
        </p:nvSpPr>
        <p:spPr>
          <a:xfrm>
            <a:off x="55627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37"/>
          <p:cNvSpPr/>
          <p:nvPr/>
        </p:nvSpPr>
        <p:spPr>
          <a:xfrm>
            <a:off x="3124080" y="4648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38"/>
          <p:cNvSpPr/>
          <p:nvPr/>
        </p:nvSpPr>
        <p:spPr>
          <a:xfrm>
            <a:off x="45720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Verdana"/>
              </a:rPr>
              <a:t>Las culturas antes de los romano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Content Placeholder 2" descr=""/>
          <p:cNvPicPr/>
          <p:nvPr/>
        </p:nvPicPr>
        <p:blipFill>
          <a:blip r:embed="rId1"/>
          <a:stretch/>
        </p:blipFill>
        <p:spPr>
          <a:xfrm>
            <a:off x="500040" y="480960"/>
            <a:ext cx="8193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Los carpetanos – </a:t>
            </a:r>
            <a:br>
              <a:rPr sz="4000"/>
            </a:b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upo de origen celto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47920"/>
            <a:ext cx="81835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ven en el centro de la península, al sur de Tole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II siglo Ac – I siglo A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conomía se base en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agricul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minerales (oro y pla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industria tex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carpetanos II.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Liceu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.  (August 8, 2010)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ttp://www.liceus.com/cgi-bin/ac/pu/carp2.asp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02:27:40Z</dcterms:created>
  <dc:creator>joann</dc:creator>
  <dc:description/>
  <dc:language>en-US</dc:language>
  <cp:lastModifiedBy>joann</cp:lastModifiedBy>
  <dcterms:modified xsi:type="dcterms:W3CDTF">2011-01-18T16:13:00Z</dcterms:modified>
  <cp:revision>21</cp:revision>
  <dc:subject/>
  <dc:title>La Península Ibérica</dc:title>
</cp:coreProperties>
</file>